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1466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7351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0"/>
            <a:ext cx="4435560" cy="7351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450440" y="1099800"/>
            <a:ext cx="7332840" cy="54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6965640"/>
            <a:ext cx="8186760" cy="65977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b">
            <a:noAutofit/>
          </a:bodyPr>
          <a:lstStyle>
            <a:lvl1pPr indent="0" algn="r">
              <a:buNone/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9759CF90-5522-4689-98D1-08B651228237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579744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640" rIns="134640" tIns="67320" bIns="67320" anchor="b">
            <a:noAutofit/>
          </a:bodyPr>
          <a:p>
            <a:pPr algn="r"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1B6ECA8A-B803-42C7-8CCD-7A13B1F08A12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450800" y="1100160"/>
            <a:ext cx="7332840" cy="549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023480" y="6965640"/>
            <a:ext cx="8186760" cy="65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579744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640" rIns="134640" tIns="67320" bIns="67320" anchor="b">
            <a:noAutofit/>
          </a:bodyPr>
          <a:p>
            <a:pPr algn="r"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33BB4493-3905-47BC-885F-662CF75D9279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454040" y="1100160"/>
            <a:ext cx="7329600" cy="54975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23480" y="6962760"/>
            <a:ext cx="818676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864-0309-4CD9-8E3F-43873BD6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F27-EE43-4DCD-8554-4D05917A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F2E-B865-44C8-B022-787A9287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6D2-A7DB-45D1-8B87-6D3C21C6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494-B639-41A5-8847-E1D04DF1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1A5-C183-45F8-9BA9-4F1890E5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11E-BE42-4D33-927B-A08D7E2D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47A-B411-4571-8E18-07FB2675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17C-A55D-4D0B-A288-61C74118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C4B-64EA-491E-9C09-FE0F8F19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E5D-C669-4FDB-AF44-8135A190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B08-D123-4A85-B9D9-D1FCFDA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146E-CB3B-43BE-AE20-C77D8000C0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5"/>
          <p:cNvSpPr/>
          <p:nvPr/>
        </p:nvSpPr>
        <p:spPr>
          <a:xfrm>
            <a:off x="4187880" y="620640"/>
            <a:ext cx="441648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Which regulatory obligations can be removed? Reasons for removing could be for exampl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is not used or seldom used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 risks are prevented or controlled. Examples are removing of permit systems, prohibitions and announcement obligation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veral regulations serve the same purpose. Permits could be integrated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6"/>
          <p:cNvSpPr/>
          <p:nvPr/>
        </p:nvSpPr>
        <p:spPr>
          <a:xfrm>
            <a:off x="4187880" y="500688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duction of time consumed by governmental bod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by (a) one of the previous steps and (b) streamlining of work process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7"/>
          <p:cNvSpPr/>
          <p:nvPr/>
        </p:nvSpPr>
        <p:spPr>
          <a:xfrm>
            <a:off x="4187880" y="5518080"/>
            <a:ext cx="4416480" cy="10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mprovement of service level of governmental bodies to citizens and businesses, aimed at aspects like accessibility and customer satisfa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king regulations quickly and easily accessible via internet, search engines, decision trees or offic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iving the proper inform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elping businesses with required actions for obligations instead of only accepting/rejec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 unambiguousl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eside these aspects governmental bodies could give businesses extra information concerning other relevant regulations. For instance by giving descriptions of these regulations or contact inform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8"/>
          <p:cNvSpPr/>
          <p:nvPr/>
        </p:nvSpPr>
        <p:spPr>
          <a:xfrm>
            <a:off x="1981080" y="3286080"/>
            <a:ext cx="71928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9"/>
          <p:cNvSpPr/>
          <p:nvPr/>
        </p:nvSpPr>
        <p:spPr>
          <a:xfrm>
            <a:off x="2340000" y="371808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0"/>
          <p:cNvSpPr/>
          <p:nvPr/>
        </p:nvSpPr>
        <p:spPr>
          <a:xfrm>
            <a:off x="2340000" y="414972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1"/>
          <p:cNvSpPr/>
          <p:nvPr/>
        </p:nvSpPr>
        <p:spPr>
          <a:xfrm>
            <a:off x="2340000" y="465300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2"/>
          <p:cNvSpPr/>
          <p:nvPr/>
        </p:nvSpPr>
        <p:spPr>
          <a:xfrm flipV="1">
            <a:off x="2340000" y="3285720"/>
            <a:ext cx="0" cy="18716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3"/>
          <p:cNvSpPr/>
          <p:nvPr/>
        </p:nvSpPr>
        <p:spPr>
          <a:xfrm>
            <a:off x="1260360" y="839880"/>
            <a:ext cx="273708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4"/>
          <p:cNvSpPr/>
          <p:nvPr/>
        </p:nvSpPr>
        <p:spPr>
          <a:xfrm>
            <a:off x="1260360" y="1652760"/>
            <a:ext cx="273708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5"/>
          <p:cNvSpPr/>
          <p:nvPr/>
        </p:nvSpPr>
        <p:spPr>
          <a:xfrm>
            <a:off x="1332000" y="2455920"/>
            <a:ext cx="266544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6"/>
          <p:cNvSpPr/>
          <p:nvPr/>
        </p:nvSpPr>
        <p:spPr>
          <a:xfrm>
            <a:off x="3780000" y="328608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7"/>
          <p:cNvSpPr/>
          <p:nvPr/>
        </p:nvSpPr>
        <p:spPr>
          <a:xfrm>
            <a:off x="3780000" y="371808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8"/>
          <p:cNvSpPr/>
          <p:nvPr/>
        </p:nvSpPr>
        <p:spPr>
          <a:xfrm>
            <a:off x="3780000" y="414972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9"/>
          <p:cNvSpPr/>
          <p:nvPr/>
        </p:nvSpPr>
        <p:spPr>
          <a:xfrm>
            <a:off x="3780000" y="465300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0"/>
          <p:cNvSpPr/>
          <p:nvPr/>
        </p:nvSpPr>
        <p:spPr>
          <a:xfrm>
            <a:off x="2130120" y="612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1"/>
          <p:cNvSpPr/>
          <p:nvPr/>
        </p:nvSpPr>
        <p:spPr>
          <a:xfrm>
            <a:off x="2130120" y="14256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2"/>
          <p:cNvSpPr/>
          <p:nvPr/>
        </p:nvSpPr>
        <p:spPr>
          <a:xfrm>
            <a:off x="2130120" y="22287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3"/>
          <p:cNvSpPr/>
          <p:nvPr/>
        </p:nvSpPr>
        <p:spPr>
          <a:xfrm>
            <a:off x="2130120" y="3059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4"/>
          <p:cNvSpPr/>
          <p:nvPr/>
        </p:nvSpPr>
        <p:spPr>
          <a:xfrm>
            <a:off x="4211640" y="1449360"/>
            <a:ext cx="439272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 certain information obligations in regulation other instruments can be used to achieve the same  policy goal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announce system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prohibition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dispensation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5"/>
          <p:cNvSpPr/>
          <p:nvPr/>
        </p:nvSpPr>
        <p:spPr>
          <a:xfrm>
            <a:off x="4213080" y="2241720"/>
            <a:ext cx="439128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 order to acquire permits certain procedures (activities) have to be followed. By removin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on-functional parts of these procedures simplifications can be realiz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tain supply of required information becomes unnecessary when governmental bodies use the information that is already available at other governmental bodi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tain explanations become unnecessary when governmental bodies do more research themselv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6"/>
          <p:cNvSpPr/>
          <p:nvPr/>
        </p:nvSpPr>
        <p:spPr>
          <a:xfrm>
            <a:off x="4213080" y="3141720"/>
            <a:ext cx="439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creasing selection-limits for determining which citizens or businesses belong to the target grou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narrowing the definition of the selection criteri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7"/>
          <p:cNvSpPr/>
          <p:nvPr/>
        </p:nvSpPr>
        <p:spPr>
          <a:xfrm>
            <a:off x="4187880" y="357660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wering the number of times citizens or businesses need to fulfill oblig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only require a report when things change instead of periodically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8"/>
          <p:cNvSpPr/>
          <p:nvPr/>
        </p:nvSpPr>
        <p:spPr>
          <a:xfrm>
            <a:off x="4187880" y="400680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wering of time consumed by simplifying 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example the use of (a) ICT, (b) only asking for relevant information (c) streamlining of work process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9"/>
          <p:cNvSpPr/>
          <p:nvPr/>
        </p:nvSpPr>
        <p:spPr>
          <a:xfrm>
            <a:off x="4187880" y="451008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or instance (1) reduction of legal charges (2) lowering of costs by simplifying certain 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like less extra copies of appeal forms or evidenc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0"/>
          <p:cNvSpPr/>
          <p:nvPr/>
        </p:nvSpPr>
        <p:spPr>
          <a:xfrm>
            <a:off x="2340000" y="515772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1"/>
          <p:cNvSpPr/>
          <p:nvPr/>
        </p:nvSpPr>
        <p:spPr>
          <a:xfrm>
            <a:off x="3780000" y="515772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2"/>
          <p:cNvSpPr/>
          <p:nvPr/>
        </p:nvSpPr>
        <p:spPr>
          <a:xfrm>
            <a:off x="1405080" y="5816520"/>
            <a:ext cx="259236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3"/>
          <p:cNvSpPr/>
          <p:nvPr/>
        </p:nvSpPr>
        <p:spPr>
          <a:xfrm>
            <a:off x="2125440" y="5589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4"/>
          <p:cNvSpPr/>
          <p:nvPr/>
        </p:nvSpPr>
        <p:spPr>
          <a:xfrm>
            <a:off x="2484360" y="400536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71720" indent="-17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c. Reduction of time involved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5"/>
          <p:cNvSpPr/>
          <p:nvPr/>
        </p:nvSpPr>
        <p:spPr>
          <a:xfrm>
            <a:off x="2484360" y="450864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d. Reduction of costs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6"/>
          <p:cNvSpPr/>
          <p:nvPr/>
        </p:nvSpPr>
        <p:spPr>
          <a:xfrm>
            <a:off x="2484360" y="314172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a. Reduction of target group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7"/>
          <p:cNvSpPr/>
          <p:nvPr/>
        </p:nvSpPr>
        <p:spPr>
          <a:xfrm>
            <a:off x="2484360" y="3573360"/>
            <a:ext cx="1370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166320" indent="-16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b. Reduction of                                   frequency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8"/>
          <p:cNvSpPr/>
          <p:nvPr/>
        </p:nvSpPr>
        <p:spPr>
          <a:xfrm>
            <a:off x="2484360" y="501336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71720" indent="-17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e. Reduction of appeal-tim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9"/>
          <p:cNvSpPr/>
          <p:nvPr/>
        </p:nvSpPr>
        <p:spPr>
          <a:xfrm>
            <a:off x="684360" y="223992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 Can certain administrative 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mov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0"/>
          <p:cNvSpPr/>
          <p:nvPr/>
        </p:nvSpPr>
        <p:spPr>
          <a:xfrm>
            <a:off x="684360" y="622440"/>
            <a:ext cx="1436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 Can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nformation obligations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mov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from regulation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1"/>
          <p:cNvSpPr/>
          <p:nvPr/>
        </p:nvSpPr>
        <p:spPr>
          <a:xfrm>
            <a:off x="1401840" y="105408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2"/>
          <p:cNvSpPr/>
          <p:nvPr/>
        </p:nvSpPr>
        <p:spPr>
          <a:xfrm>
            <a:off x="684360" y="6310440"/>
            <a:ext cx="1436400" cy="431640"/>
          </a:xfrm>
          <a:prstGeom prst="roundRect">
            <a:avLst>
              <a:gd name="adj" fmla="val 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aximum reduction of Administrative burden achie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3"/>
          <p:cNvSpPr/>
          <p:nvPr/>
        </p:nvSpPr>
        <p:spPr>
          <a:xfrm>
            <a:off x="684360" y="3033720"/>
            <a:ext cx="1436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. Can certain administrative activities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mplifi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4"/>
          <p:cNvSpPr/>
          <p:nvPr/>
        </p:nvSpPr>
        <p:spPr>
          <a:xfrm>
            <a:off x="1401840" y="3465360"/>
            <a:ext cx="0" cy="2052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5"/>
          <p:cNvSpPr/>
          <p:nvPr/>
        </p:nvSpPr>
        <p:spPr>
          <a:xfrm>
            <a:off x="1041480" y="1096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6"/>
          <p:cNvSpPr/>
          <p:nvPr/>
        </p:nvSpPr>
        <p:spPr>
          <a:xfrm>
            <a:off x="1041480" y="1917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7"/>
          <p:cNvSpPr/>
          <p:nvPr/>
        </p:nvSpPr>
        <p:spPr>
          <a:xfrm>
            <a:off x="1041480" y="2722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8"/>
          <p:cNvSpPr/>
          <p:nvPr/>
        </p:nvSpPr>
        <p:spPr>
          <a:xfrm>
            <a:off x="1041480" y="3510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9"/>
          <p:cNvSpPr/>
          <p:nvPr/>
        </p:nvSpPr>
        <p:spPr>
          <a:xfrm>
            <a:off x="1041480" y="5994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2"/>
          <p:cNvSpPr/>
          <p:nvPr/>
        </p:nvSpPr>
        <p:spPr>
          <a:xfrm>
            <a:off x="684360" y="143820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 Can regulatory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nformation oblig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mplifi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3"/>
          <p:cNvSpPr/>
          <p:nvPr/>
        </p:nvSpPr>
        <p:spPr>
          <a:xfrm>
            <a:off x="1403280" y="188280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4"/>
          <p:cNvSpPr/>
          <p:nvPr/>
        </p:nvSpPr>
        <p:spPr>
          <a:xfrm>
            <a:off x="1401840" y="267480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5"/>
          <p:cNvSpPr/>
          <p:nvPr/>
        </p:nvSpPr>
        <p:spPr>
          <a:xfrm>
            <a:off x="684360" y="551808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. Is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mprove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ervice level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possi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6"/>
          <p:cNvSpPr/>
          <p:nvPr/>
        </p:nvSpPr>
        <p:spPr>
          <a:xfrm>
            <a:off x="1403280" y="595152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2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0"/>
          <p:cNvSpPr/>
          <p:nvPr/>
        </p:nvSpPr>
        <p:spPr>
          <a:xfrm>
            <a:off x="0" y="333360"/>
            <a:ext cx="9144000" cy="17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eps to reduce Administrative Burden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xamples of reducing Administrative Burd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9"/>
          <p:cNvSpPr/>
          <p:nvPr/>
        </p:nvSpPr>
        <p:spPr>
          <a:xfrm>
            <a:off x="-16560" y="2844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ecision Tree: Less Administrative burden – Better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Afbeelding 2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195640" y="1376280"/>
            <a:ext cx="5045040" cy="332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IRA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Soestdijkseweg Zuid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3721 AK Biltho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lpde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el: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+31  (0)30 602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Fax: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+31  (0)30 602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Patrick van der P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E-mail: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3399"/>
                </a:solidFill>
                <a:latin typeface="Arial"/>
                <a:ea typeface="Arial"/>
              </a:rPr>
              <a:t>P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atrick.vanderpoll@siraconsulting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Or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3399"/>
                </a:solidFill>
                <a:latin typeface="Arial"/>
                <a:ea typeface="Arial"/>
              </a:rPr>
              <a:t>Joland. van.der.heijden@siraconsulting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2:25:50Z</dcterms:created>
  <dc:creator>peter.bex</dc:creator>
  <dc:description/>
  <dc:language>en-US</dc:language>
  <cp:lastModifiedBy>Patrick van der Poll</cp:lastModifiedBy>
  <cp:lastPrinted>2010-11-26T13:51:40Z</cp:lastPrinted>
  <dcterms:modified xsi:type="dcterms:W3CDTF">2019-02-14T14:35:34Z</dcterms:modified>
  <cp:revision>82</cp:revision>
  <dc:subject/>
  <dc:title>Slide 1</dc:title>
</cp:coreProperties>
</file>